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ABF1-44AB-4944-A634-E36AA9547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484-6550-4BA4-A21D-B73B7CD2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A48C-F59D-49A8-88D2-EC7BEC0A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A75-A156-4048-99FF-90BE2DC6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A77-3848-4A21-969A-E2FF3C39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DEBE-7604-46CB-A15F-C7829CBA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A09-2728-4DA6-A589-B54B6221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F9E-2DD3-475B-AC3C-0D132E14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CD7-2170-41F5-84A5-3986A561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996-FF21-4E98-A94B-676FCD48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BCF-D36B-41F5-8716-5CA9A9C1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55BD-0E35-48BA-9D08-882A3151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7E23-814E-4144-8BF3-C32420499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01880" y="770040"/>
            <a:ext cx="106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1160" y="1633680"/>
            <a:ext cx="1955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quat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78600" y="4297320"/>
            <a:ext cx="1593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deu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9640" y="746280"/>
            <a:ext cx="1193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i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13000" y="2441520"/>
            <a:ext cx="1403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cinq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54240" y="4297320"/>
            <a:ext cx="1593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troi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94240" y="1633680"/>
            <a:ext cx="1536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neuf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51040" y="3174840"/>
            <a:ext cx="1498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s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4240" y="3505320"/>
            <a:ext cx="1231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di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13280" y="1336680"/>
            <a:ext cx="140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hui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94280" y="2813040"/>
            <a:ext cx="1803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douz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65600" y="412920"/>
            <a:ext cx="1536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onz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3880" y="19368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you write these numbers in 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6240" y="508968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you start at 12 and go backwar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96800" y="4586400"/>
            <a:ext cx="10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3880" y="350532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a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5520" y="4226040"/>
            <a:ext cx="15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3880" y="278604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3880" y="314496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n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5520" y="3865680"/>
            <a:ext cx="15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1160" y="1704960"/>
            <a:ext cx="15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160" y="2425680"/>
            <a:ext cx="14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1160" y="1273320"/>
            <a:ext cx="12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160" y="206532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9520" y="55404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u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160" y="912960"/>
            <a:ext cx="15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3880" y="19368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d you write the  numbers in ord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6240" y="5089680"/>
            <a:ext cx="61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3:14:21Z</dcterms:created>
  <dc:creator>Helen</dc:creator>
  <dc:description/>
  <dc:language>en-US</dc:language>
  <cp:lastModifiedBy>Helen</cp:lastModifiedBy>
  <dcterms:modified xsi:type="dcterms:W3CDTF">2010-05-22T13:18:19Z</dcterms:modified>
  <cp:revision>2</cp:revision>
  <dc:subject/>
  <dc:title>Slide 1</dc:title>
</cp:coreProperties>
</file>